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062-2C3C-4C2D-A9D4-BCAD6FC9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CF8C-B48C-47B6-BDEA-48E55851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7E5-0471-432D-BCBA-0989F0C3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275-0544-4213-A0F7-49BC25F6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504-FFF0-478E-BB3E-FF1874B3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A1F-DCB9-4EC3-A3DF-7110C700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C2D-46DC-4B27-9A7A-B2FBAD92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A66B-9519-4435-B859-5BB6D51C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81A-1517-4476-BBFE-06D34D0A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72C-24B9-429A-9063-691A899F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06D-A878-4FDA-8AEB-E7B216B5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9858-B8B8-4D0D-B242-588736DA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5BD1-8D9B-4EF1-89BC-A11D08239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ior,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304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issa Estr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2898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4267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3765600" cy="559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619440" cy="5432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181480" y="6858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nd Colo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by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95440" y="2381400"/>
            <a:ext cx="435312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6094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oooooooooooom last semest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436428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90920" y="11430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dwich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133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 witch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434016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876920" y="1752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nting with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5181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h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19720" y="3809880"/>
            <a:ext cx="4038480" cy="278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40384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6094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86160" cy="325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81360" y="3395520"/>
            <a:ext cx="456264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30492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ree Choice #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1447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5004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0448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56280" y="1600200"/>
            <a:ext cx="3020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57240" y="1600200"/>
            <a:ext cx="303696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170320" y="1600200"/>
            <a:ext cx="2992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11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ing with 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70080" y="1600200"/>
            <a:ext cx="3002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6:30:34Z</dcterms:created>
  <dc:creator>bal_mdestrada</dc:creator>
  <dc:description/>
  <dc:language>en-US</dc:language>
  <cp:lastModifiedBy>C</cp:lastModifiedBy>
  <dcterms:modified xsi:type="dcterms:W3CDTF">2009-05-22T20:11:44Z</dcterms:modified>
  <cp:revision>13</cp:revision>
  <dc:subject/>
  <dc:title>Marissaaaah!</dc:title>
</cp:coreProperties>
</file>